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47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08916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Аппаратно-программное обеспечени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93372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413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Аппаратная часть мультимедиа. МРС-стандар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A14B-1BA7-400C-851C-4393C9F0AB2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8608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5.1" descr=""/>
          <p:cNvPicPr/>
          <p:nvPr/>
        </p:nvPicPr>
        <p:blipFill>
          <a:blip r:embed="rId1"/>
          <a:stretch/>
        </p:blipFill>
        <p:spPr>
          <a:xfrm>
            <a:off x="431640" y="1700280"/>
            <a:ext cx="4321440" cy="4321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08360" y="162864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1665360"/>
            <a:ext cx="40320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та для нелинейного видеомонтаж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oVIDEO D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8E86-B272-4D87-87EB-DB4E2A4DD04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03280" y="1125360"/>
          <a:ext cx="8136000" cy="5087880"/>
        </p:xfrm>
        <a:graphic>
          <a:graphicData uri="http://schemas.openxmlformats.org/drawingml/2006/table">
            <a:tbl>
              <a:tblPr/>
              <a:tblGrid>
                <a:gridCol w="4248000"/>
                <a:gridCol w="3888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тод компре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-JP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решение видео (для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L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AM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 24 б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ифровой по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кадр/с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AM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кадр/с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жатие для кад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- системы на "ввод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 SECAM NT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еов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омп., 1 S-Vid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"Живое" окно на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, только для предва-рительного просмот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ифровка зву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хват ТВ -кадра без компре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-вы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/NT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полнительные возмож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ифровка звука и воспроиз-ве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омендации по использова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линейный монтаж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H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1406520" y="512640"/>
            <a:ext cx="66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новные возможности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iroVIDEO DC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30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lus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1413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ериферия для мультимеди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EFCB-75E4-4ED3-98A0-791DB46C23D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08360" y="162864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14680" y="348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R4_2" descr=""/>
          <p:cNvPicPr/>
          <p:nvPr/>
        </p:nvPicPr>
        <p:blipFill>
          <a:blip r:embed="rId1"/>
          <a:stretch/>
        </p:blipFill>
        <p:spPr>
          <a:xfrm>
            <a:off x="358920" y="2398680"/>
            <a:ext cx="3960720" cy="2901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788000" y="1665360"/>
            <a:ext cx="40320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УЛЬТИМЕДИЙНЫЕ ПРО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о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VC DL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51AE-CF64-4205-95FF-02B5D7072C3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3213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ub_02-02" descr=""/>
          <p:cNvPicPr/>
          <p:nvPr/>
        </p:nvPicPr>
        <p:blipFill>
          <a:blip r:embed="rId1"/>
          <a:stretch/>
        </p:blipFill>
        <p:spPr>
          <a:xfrm>
            <a:off x="826920" y="498600"/>
            <a:ext cx="3060720" cy="2678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2989440" cy="3076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753080" y="585720"/>
            <a:ext cx="4032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явлением телевизоров на жидких кристаллах (ЖК) у разработчиков возникла остроумная мысль использовать ЖК-матрицу как основной элемент в прямом проекто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0000" y="3284640"/>
            <a:ext cx="40323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96 г.появился аппарат, разработанный американской фирмой Texas Instruments и основанный на совершенно новом принципе DLP (Digital Light Processing - цифровая обработка светового поток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AFAE-D90F-48FC-BEBD-2B095E1B36F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0000" y="585720"/>
            <a:ext cx="4211640" cy="57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стройство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M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кристал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DMD-матрица представляет собой кремниевую пластину с прямоугольным массивом размещенных на ее поверхности отражающих элементов. Каждый такой элемент содержит микрозерка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ST1_1" descr=""/>
          <p:cNvPicPr/>
          <p:nvPr/>
        </p:nvPicPr>
        <p:blipFill>
          <a:blip r:embed="rId1"/>
          <a:stretch/>
        </p:blipFill>
        <p:spPr>
          <a:xfrm>
            <a:off x="216000" y="1739880"/>
            <a:ext cx="417672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BC3F-993B-4A79-823A-657BEA0E70C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6T07:33:17Z</dcterms:modified>
  <cp:revision>94</cp:revision>
  <dc:subject/>
  <dc:title>Lecture Template </dc:title>
</cp:coreProperties>
</file>